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E6BD-ACC0-48F0-8D25-8DE6B7FB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3337-33EB-478C-9D4E-D663DF42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24DD-7850-48F3-8427-9ADCDA10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32E8-E86A-4588-8E0C-B0CC86EC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B980-2F08-4DB4-B12F-8431772B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BFE9-5572-4223-BD01-CE5C80FE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E35C-699F-49A8-903C-D940F55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F71-D741-4E7B-8C5C-036963B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17EB-FC1C-4082-93FF-6D746E10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7473-F48C-48C6-952F-9A9ED75B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A930-7D15-4336-A2BD-529A475D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1537-75E3-4E2A-96BE-B41526D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DDE-F330-4BAE-A219-B9047C0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5F8-7892-44B6-80A4-F691813D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345D-99A6-428E-8066-C23A71F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B1D-0937-408C-BB48-59B4DD5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F82-4377-4EA5-AEB2-9D42D4DA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9062-720E-4ADC-A7CC-4E71D9D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04C3-06A0-4C62-AD84-D371C4D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427C-4C5D-4E80-8CFF-DED50718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5679-A422-49EF-A5DB-3FC7F3B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6120-2CFD-4041-BE60-5207218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CD5D-C50D-4CE9-A511-2676967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5CE7-5BCB-4A9E-A5D2-17EAE54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BF4A3-237C-477F-8108-3E84F30C1F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675080-0EAD-4625-B72A-2181EACF0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0720" y="190080"/>
            <a:ext cx="418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FU</a:t>
            </a:r>
            <a:br>
              <a:rPr sz="4400"/>
            </a:br>
            <a:r>
              <a:rPr b="1" lang="es-ES" sz="1600" spc="-1" strike="noStrike">
                <a:solidFill>
                  <a:srgbClr val="e5e5ff"/>
                </a:solidFill>
                <a:latin typeface="Garamond"/>
              </a:rPr>
              <a:t>Climate Forecasting Unit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pport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2492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Gabriela Taraban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500280"/>
            <a:ext cx="43214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I have worked in the private sector for many years. I was always a dedicated part off support staff in different companies and different roles such as EA, Team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assistant and Office manager.  I enjoy helping people to do their daily job that is why I dedicate my career in the support staff departmen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At IC3 I am a secretary to the CFU department and focus on the SPECS projec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51577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H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enjoy being in the nature, reading and travel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150" t="4854" r="0" b="0"/>
          <a:stretch/>
        </p:blipFill>
        <p:spPr>
          <a:xfrm>
            <a:off x="826920" y="401760"/>
            <a:ext cx="2089440" cy="187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14:00Z</dcterms:created>
  <dc:creator>Xavi</dc:creator>
  <dc:description/>
  <dc:language>en-US</dc:language>
  <cp:lastModifiedBy>mdavis</cp:lastModifiedBy>
  <dcterms:modified xsi:type="dcterms:W3CDTF">2013-03-05T14:55:37Z</dcterms:modified>
  <cp:revision>3</cp:revision>
  <dc:subject/>
  <dc:title>Unit/Lab/Admin</dc:title>
</cp:coreProperties>
</file>